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.jpeg" ContentType="image/jpeg"/>
  <Override PartName="/ppt/media/image9.jpeg" ContentType="image/jpeg"/>
  <Override PartName="/ppt/media/bomb.wav" ContentType="audio/x-wav"/>
  <Override PartName="/ppt/media/explode.wav" ContentType="audio/x-wav"/>
  <Override PartName="/ppt/media/image2.jpeg" ContentType="image/jpeg"/>
  <Override PartName="/ppt/media/image3.png" ContentType="image/png"/>
  <Override PartName="/ppt/media/wind.wav" ContentType="audio/x-wav"/>
  <Override PartName="/ppt/media/chimes.wav" ContentType="audio/x-wav"/>
  <Override PartName="/ppt/media/image6.jpeg" ContentType="image/jpeg"/>
  <Override PartName="/ppt/media/image8.png" ContentType="image/png"/>
  <Override PartName="/ppt/media/image4.png" ContentType="image/png"/>
  <Override PartName="/ppt/media/hammer.wav" ContentType="audio/x-wav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349-F48D-4E6E-A68A-C8BDD50E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39A-E7EA-4AA9-B775-64FA41DF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0D4-174D-426E-AD38-C15D8B2C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93DF-F332-4B8B-B917-CF30573E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A8123-8419-4586-9356-E0EDDF89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1D286-EDE6-45E4-AB81-61ABA5B3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8D159-9BD0-472F-98A5-F6B1B5E5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09B32-22E0-43A4-B37F-9D462038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74065-6756-407F-9395-89EEC608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AC4F2-B009-4452-9006-BF9A243C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C7E6A-4A82-4B75-AF9C-2D4C80DC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24FD-5D6D-4906-BEAB-87EC9797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DE7D1-2816-4535-B84C-2BDB1A27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B977B-B3F4-4D53-BB8A-9CEC7300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9630C-A7EE-444D-B536-09D57844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2B56C-13D9-45A1-AD2C-059D6EE9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76DC7-ECA8-4B3D-A713-BE527DDA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A841A-1763-4505-A0F3-3CB9CC10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47D3D-C36B-46AE-93F5-DB90E445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17698-9123-42EA-B446-214409F4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3E96-2FB4-4BFB-9747-5544F8A3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1CA77-9B1C-4F6B-905E-2F664B72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80D-5B42-41B7-9F9D-41144B4F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0B337-7B00-4180-9F55-1BE1697C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ED5F4-925D-4C30-8452-DE14E6E7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98592-33A2-412C-82E5-EDED429A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B2FAF-DB64-4FFC-8E37-0C830640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9FA42-D925-4024-94CD-1313624C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B53C6-4D56-4EAE-958F-392BDF67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5B710-A7E9-44B1-9A43-09021F30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006CC-F26D-4747-B293-012BDD7C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E767A-98A4-4D0B-B118-7D4EBD38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7E663-2AFA-4682-9ED9-998D7697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5BC-E794-49DD-903F-D8857394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D6AC5-9750-4547-A1C5-F9582D55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3010A-153B-42FD-89A6-84AE7203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55FAF-6C8B-477F-8A25-F0271BD2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8AB21-4A7E-4E03-8326-BBA5C61D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C6E43-425B-4805-A8FD-4D21EBB0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18F5A-DCAA-48FB-9D1D-4BB51789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88D7B-197E-4EB8-82D1-1CEBCAC5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C849D-043F-4033-9F83-E3BE3E3B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C6D3-1ED9-4FF9-89F1-31255A93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6C602-09E1-48A7-A776-BED05DFE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6A3-8958-4D83-AF76-DFD1F00E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381C9-9526-4E8D-BFA8-45E36C36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E4E71-78B5-4973-978F-6A9BAD3E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A09CD-64A1-4FB1-B739-82D2D822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4E639-FD5B-4749-B7E9-3F45E2F4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BB8A1-C9D3-4C5C-8A79-16E1A8B4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BE9BD-0F37-4C5E-8081-BEC36481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E24F6-E7E4-447C-BB62-D1163FBA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97DBB-9D7A-4BA4-A6F4-3D0DC4C4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E1963-CD85-4C94-A708-E486FE49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C49A1-41EA-4557-BACA-08F2C46B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EDA-B941-46BE-931C-709CACA7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1A535-85F2-4180-BCA6-C41FF8B8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CFD57A-84F7-4680-A9EC-5C8066C4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FD1CA5-4F0A-4F4D-A3E4-1F0976B7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42FC4A-AB57-49D9-B89D-B4895FA1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A97FF-DF22-4D4E-8124-5ED9AF82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EA1F4-CBF7-4EDD-81A6-5145180A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1CC2F0-3BE9-4825-83A2-2B994A7C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1A4E4-6C53-46EA-A873-64E7B125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3F197-621C-4AF9-A4D8-DEFDBB84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4773D6-7DCB-48A1-924E-A488A4FC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803-BFCE-491A-81FC-6CCF6A22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33FA40-86E6-4B77-94F6-DDE0F181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12CD31-E3B4-453D-8A84-9984E767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2C6D2-72A8-45F9-9086-D089ED4A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6F714-8AC5-441F-AAB1-CB53A390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CD42E-D63A-46B5-956B-FCF4A637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6239F-F0B7-4592-9340-D65A81DE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339B7-8F06-449C-ADC2-9F8E633D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449F0-A2E4-46CA-9BA4-50E2A478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2D9FC-03C2-4B17-9AE0-9A6D136A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752DA-9F52-4583-A72D-F5E269C1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B06-0D14-4382-9A7A-A5972F3B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A4A59-5776-41FD-80F0-79BE8536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D721A-C37E-4307-A518-21B62EE9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51BDA-D83B-49D3-B8E7-14C6EA22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CB06B-D76E-4B86-AE55-1A8C68B3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F225F-1FA1-4FE5-986A-5B086614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777-4306-4371-8B26-CD3894A3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62D4-5A2B-4DBB-AE00-4B2C5F79A0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4BDF-7288-4042-B699-A4AAD0B9EE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183C-8B18-4E6F-81B4-9C118EACB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C3E4-B33F-4008-9C87-195C7D423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7EF1-9E22-4FE7-9046-D08DB7B6B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BBDA-93A5-4448-B57F-BA0C417DEC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8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3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3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F2BE-3115-4D9E-86E7-016B294AA3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aa00"/>
                </a:solidFill>
                <a:latin typeface="Comic Sans MS"/>
              </a:rPr>
              <a:t>DINOSAUR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6d71"/>
                </a:solidFill>
                <a:latin typeface="Comic Sans MS"/>
              </a:rPr>
              <a:t>WHERE DID THEY 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nosaur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do we know about them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inosaurs lived on earth more than 215 million years a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They lived in most parts of the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They ruled the earth for nearly 150 million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inosaurs have been extinct for 65 million years</a:t>
            </a:r>
            <a:r>
              <a:rPr b="0" lang="en-US" sz="2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Extinc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– something that once alive but no longer exist anywhere on the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388120" y="4029120"/>
            <a:ext cx="2560320" cy="1962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1743120" cy="21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edff"/>
                </a:solidFill>
                <a:latin typeface="Comic Sans MS"/>
              </a:rPr>
              <a:t>How Do We Know About Dinosaur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aleontologi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cientist who studies foss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ossi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is left of a plant or animal that lived long 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inosau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animal that lived millions of years 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omic Sans MS"/>
              </a:rPr>
              <a:t>Dinosaurs were not lizards or reptiles but many did lay eggs. Some had skin like crocodiles while others skin was much smoot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733920" y="4191120"/>
            <a:ext cx="1527120" cy="183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Comic Sans MS"/>
              </a:rPr>
              <a:t>How a Dinosaur Fossil is Mad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457200" y="1600200"/>
          <a:ext cx="8229600" cy="4984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ep 1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dinosaur lives on Earth and roams the lan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ep 2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dinosaur dies and its body lays on the land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ep 3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ver time wind and rain help to cover the dinosaurs body with mud, sand, and leaves.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tep 4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fter millions of years the mud, sand, and leaves turn to rock. The bones or shape of the dinosaurs body are left in the rock and create a fossil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Comic Sans MS"/>
              </a:rPr>
              <a:t>How do Scientist Get Fossils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3733920"/>
            <a:ext cx="8305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Paleontologist use special tools and chip fossils carefully from r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The fossils are then taken to a museum where they are  cleaned, measured, and studi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Most fossils are found in pie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Scientist try to put the fossil pieces togeth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econstruc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– to rebuild or put together like puzzle pie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1865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indefinite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hat Have Scientist Learned From Dinosaur Fossils?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There were different types of dinosaurs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me were sm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ike a chick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me were t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3 story buil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Some were plant-ea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Flat tee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Some were meat-ea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Sharp tee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913280" y="1600200"/>
            <a:ext cx="3508560" cy="21891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753160" y="396396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More Dinosau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me walked on 4 le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ike animals tod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thers walked on 2 le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ith 2 short ar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any could fly like bi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thers swam like alliga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Dinosaur Names</a:t>
            </a:r>
            <a:br>
              <a:rPr sz="5400"/>
            </a:b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Paleontologist give each dinosaur a name that best describes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STEGASAUR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mic Sans MS"/>
              </a:rPr>
              <a:t>Walked on 4 le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mic Sans MS"/>
              </a:rPr>
              <a:t>Plant-eater (flat tee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mic Sans MS"/>
              </a:rPr>
              <a:t>Sharp plates on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mic Sans MS"/>
              </a:rPr>
              <a:t>Spikes on 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4572000" y="3505320"/>
            <a:ext cx="3400560" cy="20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yrannosaurus Re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rannosaurus Rex means “lizard k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of the fiercest of all 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t-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out 12ft-16ft. 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lked on 2 le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019840" y="1600200"/>
            <a:ext cx="329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04:10:11Z</dcterms:created>
  <dc:creator>Josh</dc:creator>
  <dc:description/>
  <dc:language>en-US</dc:language>
  <cp:lastModifiedBy>College Education</cp:lastModifiedBy>
  <dcterms:modified xsi:type="dcterms:W3CDTF">2006-08-17T01:42:35Z</dcterms:modified>
  <cp:revision>17</cp:revision>
  <dc:subject/>
  <dc:title>Dinosaurs</dc:title>
</cp:coreProperties>
</file>